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9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E49-5FD7-4844-A676-730C0A0BC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8BF2-5C4F-4E3B-9AE9-9AECBE48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B50-612F-4FDF-BCA3-AAE64E98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691-96A1-41C6-8AD3-884EBE20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4A2-171B-4D96-9DF2-69606831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BAC-B640-4841-87DF-5D511F7A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3CA4-8407-4E22-8307-2FE45FAA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B89-743A-4466-8648-275D614C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9FF-CEB9-420A-9923-D61BFAD1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E9F-32BD-440C-A620-EB35D75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3DE-CD9D-4754-843A-237CEC60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29D-F252-450E-AF65-B67F343E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AFBB-1017-4D03-8F5D-1F807185A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8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Elephant"/>
              </a:rPr>
              <a:t>Phylum Porif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2819520" y="4038480"/>
            <a:ext cx="36288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Elephant"/>
              </a:rPr>
              <a:t>the Sponges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Elephant"/>
              <a:ea typeface="Elepha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V. Ecological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C. Home u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bath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clean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home improvement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bathing"/>
          <p:cNvPicPr/>
          <p:nvPr/>
        </p:nvPicPr>
        <p:blipFill>
          <a:blip r:embed="rId1"/>
          <a:stretch/>
        </p:blipFill>
        <p:spPr>
          <a:xfrm>
            <a:off x="6477120" y="1219320"/>
            <a:ext cx="2666880" cy="32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03A0408"/>
          <p:cNvPicPr/>
          <p:nvPr/>
        </p:nvPicPr>
        <p:blipFill>
          <a:blip r:embed="rId2"/>
          <a:stretch/>
        </p:blipFill>
        <p:spPr>
          <a:xfrm>
            <a:off x="6477120" y="4037040"/>
            <a:ext cx="2666880" cy="282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spongepainting"/>
          <p:cNvPicPr/>
          <p:nvPr/>
        </p:nvPicPr>
        <p:blipFill>
          <a:blip r:embed="rId3"/>
          <a:stretch/>
        </p:blipFill>
        <p:spPr>
          <a:xfrm>
            <a:off x="3657600" y="4495680"/>
            <a:ext cx="2833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V. Ecological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D. Medical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Sponges  do not get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Maybe we can use what keeps them     from getting cancer to treat humans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istockphoto_2259863_medical_research"/>
          <p:cNvPicPr/>
          <p:nvPr/>
        </p:nvPicPr>
        <p:blipFill>
          <a:blip r:embed="rId1"/>
          <a:stretch/>
        </p:blipFill>
        <p:spPr>
          <a:xfrm>
            <a:off x="5524560" y="4438800"/>
            <a:ext cx="361944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Azure Vase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xbv40132"/>
          <p:cNvPicPr/>
          <p:nvPr/>
        </p:nvPicPr>
        <p:blipFill>
          <a:blip r:embed="rId1"/>
          <a:srcRect l="0" t="0" r="0" b="4934"/>
          <a:stretch/>
        </p:blipFill>
        <p:spPr>
          <a:xfrm>
            <a:off x="0" y="1981080"/>
            <a:ext cx="5486400" cy="4876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xro11013"/>
          <p:cNvPicPr/>
          <p:nvPr/>
        </p:nvPicPr>
        <p:blipFill>
          <a:blip r:embed="rId2"/>
          <a:srcRect l="0" t="0" r="0" b="4886"/>
          <a:stretch/>
        </p:blipFill>
        <p:spPr>
          <a:xfrm>
            <a:off x="4857840" y="1981080"/>
            <a:ext cx="4286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Giant Barrel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xsk10926"/>
          <p:cNvPicPr/>
          <p:nvPr/>
        </p:nvPicPr>
        <p:blipFill>
          <a:blip r:embed="rId1"/>
          <a:srcRect l="0" t="4950" r="0" b="0"/>
          <a:stretch/>
        </p:blipFill>
        <p:spPr>
          <a:xfrm>
            <a:off x="2270160" y="1787400"/>
            <a:ext cx="6873840" cy="507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sponge_1"/>
          <p:cNvPicPr/>
          <p:nvPr/>
        </p:nvPicPr>
        <p:blipFill>
          <a:blip r:embed="rId2"/>
          <a:stretch/>
        </p:blipFill>
        <p:spPr>
          <a:xfrm>
            <a:off x="0" y="1752480"/>
            <a:ext cx="3276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White Cryptic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xro11028"/>
          <p:cNvPicPr/>
          <p:nvPr/>
        </p:nvPicPr>
        <p:blipFill>
          <a:blip r:embed="rId1"/>
          <a:srcRect l="0" t="0" r="0" b="3304"/>
          <a:stretch/>
        </p:blipFill>
        <p:spPr>
          <a:xfrm>
            <a:off x="0" y="1305000"/>
            <a:ext cx="4952880" cy="555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586a"/>
          <p:cNvPicPr/>
          <p:nvPr/>
        </p:nvPicPr>
        <p:blipFill>
          <a:blip r:embed="rId2"/>
          <a:stretch/>
        </p:blipFill>
        <p:spPr>
          <a:xfrm>
            <a:off x="4975200" y="1308240"/>
            <a:ext cx="416880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Elephant Ear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xgt10311"/>
          <p:cNvPicPr/>
          <p:nvPr/>
        </p:nvPicPr>
        <p:blipFill>
          <a:blip r:embed="rId1"/>
          <a:srcRect l="0" t="0" r="0" b="3333"/>
          <a:stretch/>
        </p:blipFill>
        <p:spPr>
          <a:xfrm>
            <a:off x="0" y="1351080"/>
            <a:ext cx="5334120" cy="550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80px-Elephant-ear-sponge"/>
          <p:cNvPicPr/>
          <p:nvPr/>
        </p:nvPicPr>
        <p:blipFill>
          <a:blip r:embed="rId2"/>
          <a:stretch/>
        </p:blipFill>
        <p:spPr>
          <a:xfrm>
            <a:off x="5359320" y="1351080"/>
            <a:ext cx="378468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Stove pipe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xbo10502"/>
          <p:cNvPicPr/>
          <p:nvPr/>
        </p:nvPicPr>
        <p:blipFill>
          <a:blip r:embed="rId1"/>
          <a:srcRect l="0" t="3333" r="0" b="0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Yellow Vase Spo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xca20303"/>
          <p:cNvPicPr/>
          <p:nvPr/>
        </p:nvPicPr>
        <p:blipFill>
          <a:blip r:embed="rId1"/>
          <a:srcRect l="0" t="0" r="0" b="4950"/>
          <a:stretch/>
        </p:blipFill>
        <p:spPr>
          <a:xfrm>
            <a:off x="0" y="1100160"/>
            <a:ext cx="914400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Yellow Barrel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xca20429"/>
          <p:cNvPicPr/>
          <p:nvPr/>
        </p:nvPicPr>
        <p:blipFill>
          <a:blip r:embed="rId1"/>
          <a:srcRect l="0" t="3311" r="0" b="0"/>
          <a:stretch/>
        </p:blipFill>
        <p:spPr>
          <a:xfrm>
            <a:off x="1981080" y="1146240"/>
            <a:ext cx="518184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Red Branch 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seapic01-08_se17"/>
          <p:cNvPicPr/>
          <p:nvPr/>
        </p:nvPicPr>
        <p:blipFill>
          <a:blip r:embed="rId1"/>
          <a:stretch/>
        </p:blipFill>
        <p:spPr>
          <a:xfrm>
            <a:off x="914400" y="1336680"/>
            <a:ext cx="719460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. Gener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Kingdom : Anim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Elepha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Phylum : Porif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Porifera = “pore bear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urks_scuba_sponges"/>
          <p:cNvPicPr/>
          <p:nvPr/>
        </p:nvPicPr>
        <p:blipFill>
          <a:blip r:embed="rId1"/>
          <a:stretch/>
        </p:blipFill>
        <p:spPr>
          <a:xfrm>
            <a:off x="0" y="3638520"/>
            <a:ext cx="4286160" cy="321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xvi41215"/>
          <p:cNvPicPr/>
          <p:nvPr/>
        </p:nvPicPr>
        <p:blipFill>
          <a:blip r:embed="rId2"/>
          <a:srcRect l="0" t="4950" r="0" b="0"/>
          <a:stretch/>
        </p:blipFill>
        <p:spPr>
          <a:xfrm>
            <a:off x="4143240" y="3657600"/>
            <a:ext cx="5000760" cy="3200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5562720" y="6400800"/>
            <a:ext cx="3047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Pink lumpy spo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57200" y="3962520"/>
            <a:ext cx="335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Yellow barrel spo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sponges_sea_lif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 http://staffweb.psdschools.org/shunter/hunter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. General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Size range – 1 cm to 2 meters in dia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pung"/>
          <p:cNvPicPr/>
          <p:nvPr/>
        </p:nvPicPr>
        <p:blipFill>
          <a:blip r:embed="rId1"/>
          <a:stretch/>
        </p:blipFill>
        <p:spPr>
          <a:xfrm>
            <a:off x="4572000" y="2362320"/>
            <a:ext cx="3811680" cy="4008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514600" y="6338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Giant Barrel sponges</a:t>
            </a:r>
            <a:r>
              <a:rPr b="0" lang="en-US" sz="18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xco80116"/>
          <p:cNvPicPr/>
          <p:nvPr/>
        </p:nvPicPr>
        <p:blipFill>
          <a:blip r:embed="rId2"/>
          <a:srcRect l="0" t="16667" r="0" b="0"/>
          <a:stretch/>
        </p:blipFill>
        <p:spPr>
          <a:xfrm>
            <a:off x="914400" y="2362320"/>
            <a:ext cx="342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I. Body Struct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lephan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Ostia – pores – many, water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Elephan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Oscula – large opening(s), one or few,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xvi30306"/>
          <p:cNvPicPr/>
          <p:nvPr/>
        </p:nvPicPr>
        <p:blipFill>
          <a:blip r:embed="rId1"/>
          <a:srcRect l="0" t="3333" r="0" b="0"/>
          <a:stretch/>
        </p:blipFill>
        <p:spPr>
          <a:xfrm>
            <a:off x="5638680" y="2666880"/>
            <a:ext cx="3505320" cy="4191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sponge"/>
          <p:cNvPicPr/>
          <p:nvPr/>
        </p:nvPicPr>
        <p:blipFill>
          <a:blip r:embed="rId2"/>
          <a:stretch/>
        </p:blipFill>
        <p:spPr>
          <a:xfrm>
            <a:off x="0" y="2666880"/>
            <a:ext cx="566748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6858000" y="6019920"/>
            <a:ext cx="228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os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7696080" y="5334120"/>
            <a:ext cx="3812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I. Bod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C. Choanocyt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collar cells; have flage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D. Amoebocyt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transport food to layer of cells not on th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pongeDiagram2cmp"/>
          <p:cNvPicPr/>
          <p:nvPr/>
        </p:nvPicPr>
        <p:blipFill>
          <a:blip r:embed="rId1"/>
          <a:srcRect l="0" t="0" r="0" b="8571"/>
          <a:stretch/>
        </p:blipFill>
        <p:spPr>
          <a:xfrm>
            <a:off x="4006800" y="1371600"/>
            <a:ext cx="51372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I. Body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114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E. Spicules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skeleton” hard splinter-lik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made of  calcium carbonate (Ca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Elephant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or silica  (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F. Spongin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flexible prot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SPICULES"/>
          <p:cNvPicPr/>
          <p:nvPr/>
        </p:nvPicPr>
        <p:blipFill>
          <a:blip r:embed="rId1"/>
          <a:stretch/>
        </p:blipFill>
        <p:spPr>
          <a:xfrm>
            <a:off x="4199040" y="2379600"/>
            <a:ext cx="4944960" cy="4478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picules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III. Level of organizat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A. 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B. Eukary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lephant"/>
              </a:rPr>
              <a:t>C. No 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mage199a"/>
          <p:cNvPicPr/>
          <p:nvPr/>
        </p:nvPicPr>
        <p:blipFill>
          <a:blip r:embed="rId1"/>
          <a:stretch/>
        </p:blipFill>
        <p:spPr>
          <a:xfrm>
            <a:off x="4648320" y="1371600"/>
            <a:ext cx="4066920" cy="4705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4876920" y="624852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Japanese Deep Sea Spo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Photo: J. Dafni;"/>
          <p:cNvPicPr/>
          <p:nvPr/>
        </p:nvPicPr>
        <p:blipFill>
          <a:blip r:embed="rId2"/>
          <a:stretch/>
        </p:blipFill>
        <p:spPr>
          <a:xfrm>
            <a:off x="0" y="3611520"/>
            <a:ext cx="459756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IV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Elephant"/>
              </a:rPr>
              <a:t>Habit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quatic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. M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B. Fresh-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xco70225"/>
          <p:cNvPicPr/>
          <p:nvPr/>
        </p:nvPicPr>
        <p:blipFill>
          <a:blip r:embed="rId1"/>
          <a:srcRect l="0" t="5000" r="0" b="0"/>
          <a:stretch/>
        </p:blipFill>
        <p:spPr>
          <a:xfrm>
            <a:off x="3597120" y="1325520"/>
            <a:ext cx="5546880" cy="3475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image?id=11697&amp;rendTypeId=4"/>
          <p:cNvPicPr/>
          <p:nvPr/>
        </p:nvPicPr>
        <p:blipFill>
          <a:blip r:embed="rId2"/>
          <a:stretch/>
        </p:blipFill>
        <p:spPr>
          <a:xfrm>
            <a:off x="533520" y="4000680"/>
            <a:ext cx="3676680" cy="2857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5867280" y="4876920"/>
            <a:ext cx="3276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Purple Rope spo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419720" y="64771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lephant"/>
              </a:rPr>
              <a:t>Fresh-water Spo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lephant"/>
              </a:rPr>
              <a:t>V. Ecological Ro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950760" indent="-5119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Elephant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Habitat for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Elephant"/>
              </a:rPr>
              <a:t>aquatic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Elephan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Elephant"/>
              </a:rPr>
              <a:t>B. Food for 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wissen369356962.jpg"/>
          <p:cNvPicPr/>
          <p:nvPr/>
        </p:nvPicPr>
        <p:blipFill>
          <a:blip r:embed="rId1"/>
          <a:stretch/>
        </p:blipFill>
        <p:spPr>
          <a:xfrm>
            <a:off x="5181480" y="914400"/>
            <a:ext cx="3962520" cy="398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g_3162"/>
          <p:cNvPicPr/>
          <p:nvPr/>
        </p:nvPicPr>
        <p:blipFill>
          <a:blip r:embed="rId2"/>
          <a:stretch/>
        </p:blipFill>
        <p:spPr>
          <a:xfrm>
            <a:off x="0" y="3979800"/>
            <a:ext cx="38386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01:05:16Z</dcterms:created>
  <dc:creator>FCHS</dc:creator>
  <dc:description/>
  <dc:language>en-US</dc:language>
  <cp:lastModifiedBy>Clayton Johns</cp:lastModifiedBy>
  <dcterms:modified xsi:type="dcterms:W3CDTF">2010-05-14T18:37:56Z</dcterms:modified>
  <cp:revision>106</cp:revision>
  <dc:subject/>
  <dc:title>Slide 1</dc:title>
</cp:coreProperties>
</file>